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806-7568-40A0-8EF9-0D0D8F52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0CF-A8A9-49C5-A843-B2341E9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9D5-C7EF-4214-87DD-4F9071F7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456-9C70-484A-AA1D-59EB2F4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E72C-7C7D-4375-B2CF-F0242D7F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806-F5EB-4144-8854-ADA7E8ED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F2AE-09B5-4077-89A0-4A7EC64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4BB-7369-4DB9-8E49-D9457661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C68-C780-4B96-B61D-FEE78D58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496-18C8-459B-BCA8-88BA16F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581-345A-4926-BB7E-95774C0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4D3-1989-46F4-B8C0-713DC8C1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9EA7-178F-4FCF-8AEF-DE2DBC1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559-366C-482C-88D6-89A66BD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BB2-BC1B-4690-9D4E-A6A4CD1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07E7-9D89-4862-B52D-393D0C90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2CA0-36EE-43EF-840E-BF866DE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538-D7DA-4184-B93B-2CFA700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61A-C6FC-4EEE-B26C-0BA808A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ED1-FCE2-4BA1-A553-F087B99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AD3-75CB-41FC-A30B-8ABED6B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FA9-AB8B-4F81-987D-5A3B92C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918-0A85-4917-AA8E-110AC53C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891-AD7A-4B14-8E61-C1ED09F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2AA-3420-473B-A1CD-2639B910FA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873A-09EA-4B9B-AFF5-4FC1E0F08D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m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</a:t>
                      </a: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folosesc la clasă site-urile 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pot să adaug comentarii ulterior alt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ţionează pe aceeaşi idee ca şi mail-ul, dar materialul postat poate fi vizualizat de toţi utilizatorii, dacă e postat în publ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mare lucru, sub aspect informati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mai util decât wik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zitatorii blog-urilor pot posta la rândul l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ca un foru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accesat site-uri pe probleme educa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onale, medicale,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erciale – de promovare a unor produ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 fi interesată sa creez un astfel de site, sa il folosesc la clasa, dar si in cadrul unui proiect pe tematica de voluntariat pe care l-am inscris in CAE 20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Jeni</cp:lastModifiedBy>
  <dcterms:modified xsi:type="dcterms:W3CDTF">2010-12-10T01:27:22Z</dcterms:modified>
  <cp:revision>12</cp:revision>
  <dc:subject/>
  <dc:title>Compuşi hidroxilici</dc:title>
</cp:coreProperties>
</file>